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B1C-9B00-4A8A-9ACF-D1EC1CE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FA2-24BC-40B7-9B33-46D51A3A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093-54CE-4848-99DF-D724DF30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B73-88BF-4BF2-BFE7-1AE9A4B0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B79-F589-4B13-8CD1-AC918AB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0A7-A18C-4C27-AC09-98B4BE5F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923-7C39-4263-B30F-10557AF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624-E829-4BCE-A686-A9E14F1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F70-2FFA-4E96-8872-3E252F6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17D-0F20-47FB-B78F-1777224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82A-A000-4D1C-A7BC-C9D5EDA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504-B3F8-499A-B539-A8A8BA2C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598-272B-430D-B4E0-240E191A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54100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0446200">
            <a:off x="2590560" y="160020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37160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1952600">
            <a:off x="3657240" y="4647960"/>
            <a:ext cx="99072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9015000">
            <a:off x="5562000" y="403812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388800">
            <a:off x="2171520" y="25524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706600">
            <a:off x="6285960" y="224784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802600">
            <a:off x="5410080" y="137160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02400">
            <a:off x="4495320" y="11430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695400">
            <a:off x="2323800" y="361908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4395200">
            <a:off x="2781000" y="43812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345200">
            <a:off x="6057360" y="331452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937800">
            <a:off x="4724280" y="4419720"/>
            <a:ext cx="99072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H="1">
            <a:off x="5029200" y="4191120"/>
            <a:ext cx="76320" cy="1981080"/>
          </a:xfrm>
          <a:prstGeom prst="line">
            <a:avLst/>
          </a:prstGeom>
          <a:ln w="1144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191120"/>
            <a:ext cx="1219320" cy="1676160"/>
          </a:xfrm>
          <a:prstGeom prst="line">
            <a:avLst/>
          </a:prstGeom>
          <a:ln w="1144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095880" y="2057400"/>
            <a:ext cx="1981440" cy="990720"/>
          </a:xfrm>
          <a:prstGeom prst="line">
            <a:avLst/>
          </a:prstGeom>
          <a:ln w="11448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361960" y="3809880"/>
            <a:ext cx="1904760" cy="1143000"/>
          </a:xfrm>
          <a:prstGeom prst="line">
            <a:avLst/>
          </a:prstGeom>
          <a:ln w="114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05520" y="685440"/>
            <a:ext cx="0" cy="21337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057400" y="3581280"/>
            <a:ext cx="2209680" cy="76320"/>
          </a:xfrm>
          <a:prstGeom prst="line">
            <a:avLst/>
          </a:prstGeom>
          <a:ln w="1144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962520"/>
            <a:ext cx="1828800" cy="129528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429000"/>
            <a:ext cx="2286000" cy="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666880" y="1904760"/>
            <a:ext cx="1828800" cy="1143000"/>
          </a:xfrm>
          <a:prstGeom prst="line">
            <a:avLst/>
          </a:prstGeom>
          <a:ln w="1144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429000" y="990720"/>
            <a:ext cx="1295280" cy="1676160"/>
          </a:xfrm>
          <a:prstGeom prst="line">
            <a:avLst/>
          </a:prstGeom>
          <a:ln w="1144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124080" y="3962520"/>
            <a:ext cx="1524240" cy="1600200"/>
          </a:xfrm>
          <a:prstGeom prst="line">
            <a:avLst/>
          </a:prstGeom>
          <a:ln w="11448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638680" y="1219320"/>
            <a:ext cx="1371600" cy="1676160"/>
          </a:xfrm>
          <a:prstGeom prst="line">
            <a:avLst/>
          </a:prstGeom>
          <a:ln w="1144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37000">
            <a:off x="4419720" y="2819160"/>
            <a:ext cx="13395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4771"/>
          <a:stretch/>
        </p:blipFill>
        <p:spPr>
          <a:xfrm>
            <a:off x="1447920" y="295200"/>
            <a:ext cx="6172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181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61960" y="304920"/>
            <a:ext cx="6220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8560" y="304920"/>
            <a:ext cx="581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085" t="4664" r="23089" b="22214"/>
          <a:stretch/>
        </p:blipFill>
        <p:spPr>
          <a:xfrm>
            <a:off x="1219320" y="0"/>
            <a:ext cx="723888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16:21Z</dcterms:created>
  <dc:creator>Patrick J. Mooney</dc:creator>
  <dc:description/>
  <dc:language>en-US</dc:language>
  <cp:lastModifiedBy>Patrick J. Mooney</cp:lastModifiedBy>
  <dcterms:modified xsi:type="dcterms:W3CDTF">2012-02-23T04:36:36Z</dcterms:modified>
  <cp:revision>13</cp:revision>
  <dc:subject/>
  <dc:title>Slide 1</dc:title>
</cp:coreProperties>
</file>